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2C46-4CC5-4F44-8668-7F28A332F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E033-A823-4659-BC00-49235F79E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CE53-D955-47CD-8B69-7220745E7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F1D4-E51D-43AF-BECE-79E95991D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0401-096A-4222-B7AC-8CE9AD5B7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AD7F-E3E2-42E1-BDF9-89B55D7EC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3298-5FD2-47D5-A45E-506433263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586A-0788-4F90-B486-C20F314BA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0C7D-676B-457F-8E38-8E27B0D7E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14CE-F1D0-4458-A775-A5629A81C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2276-BE8D-423D-9AC8-8E5C47441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B6BE-94D8-4871-B4CD-6280DE628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8" descr="LOGO"/>
          <p:cNvPicPr/>
          <p:nvPr/>
        </p:nvPicPr>
        <p:blipFill>
          <a:blip r:embed="rId2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8" descr="LOGO"/>
          <p:cNvPicPr/>
          <p:nvPr/>
        </p:nvPicPr>
        <p:blipFill>
          <a:blip r:embed="rId2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A7E6A-6842-47EA-A986-F266775D6E3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гисане академске студије фармац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8"/>
          <p:cNvSpPr/>
          <p:nvPr/>
        </p:nvSpPr>
        <p:spPr>
          <a:xfrm>
            <a:off x="4878360" y="5589720"/>
            <a:ext cx="388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. др Ана Барјактареви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9"/>
          <p:cNvSpPr/>
          <p:nvPr/>
        </p:nvSpPr>
        <p:spPr>
          <a:xfrm>
            <a:off x="1988280" y="1773360"/>
            <a:ext cx="56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ЦЕУТСКА ТЕХНОЛОГИЈА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611280" y="2970360"/>
            <a:ext cx="7705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z-Cyrl-A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КОВАЊЕ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ФАРМАЦЕУТСКИХ</a:t>
            </a:r>
            <a:r>
              <a:rPr b="1" lang="az-Cyrl-A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z-Cyrl-A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ПАРА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68360" y="1049040"/>
            <a:ext cx="777240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ности стаклене амбалаже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рдоћ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зирно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ропустљивост за гасове и теч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пературна отпорно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порност на дејство хемикал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ко чишћењ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ћност вишекратне примен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274680" y="1267920"/>
            <a:ext cx="8229600" cy="531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достаци стаклене амбалаж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мљивос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ика мас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сока це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нтакту са водом (нарочито у току стерилизације) може да отпушта алкалије и утиче на промену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ств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лни јони су слабо везани и лако мигрирају у раств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684360" y="1125000"/>
            <a:ext cx="7772400" cy="540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РСТЕ стакла према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h. Jug. 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бојно стакл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бојено стакло (додавањем малих количина металних оксид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утрално (борсиликатно-високо хидролитички отпорно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трон силикатно стакло (умерено хидролитички отпорно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7"/>
          <p:cNvGrpSpPr/>
          <p:nvPr/>
        </p:nvGrpSpPr>
        <p:grpSpPr>
          <a:xfrm>
            <a:off x="611280" y="1628640"/>
            <a:ext cx="7678800" cy="3624120"/>
            <a:chOff x="611280" y="1628640"/>
            <a:chExt cx="7678800" cy="3624120"/>
          </a:xfrm>
        </p:grpSpPr>
        <p:sp>
          <p:nvSpPr>
            <p:cNvPr id="103" name="Rectangle 8"/>
            <p:cNvSpPr/>
            <p:nvPr/>
          </p:nvSpPr>
          <p:spPr>
            <a:xfrm>
              <a:off x="611280" y="1628640"/>
              <a:ext cx="7678800" cy="362412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9"/>
            <p:cNvSpPr/>
            <p:nvPr/>
          </p:nvSpPr>
          <p:spPr>
            <a:xfrm>
              <a:off x="3320280" y="1844280"/>
              <a:ext cx="2195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500" spc="-1" strike="noStrike">
                  <a:solidFill>
                    <a:srgbClr val="000000"/>
                  </a:solidFill>
                  <a:latin typeface="Arial"/>
                </a:rPr>
                <a:t>Борсиликатно стакло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10"/>
            <p:cNvSpPr/>
            <p:nvPr/>
          </p:nvSpPr>
          <p:spPr>
            <a:xfrm>
              <a:off x="5138280" y="1844280"/>
              <a:ext cx="54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5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11"/>
            <p:cNvSpPr/>
            <p:nvPr/>
          </p:nvSpPr>
          <p:spPr>
            <a:xfrm>
              <a:off x="1387800" y="2239560"/>
              <a:ext cx="1142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500" spc="-1" strike="noStrike">
                  <a:solidFill>
                    <a:srgbClr val="000000"/>
                  </a:solidFill>
                  <a:latin typeface="Arial"/>
                </a:rPr>
                <a:t>Компонента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12"/>
            <p:cNvSpPr/>
            <p:nvPr/>
          </p:nvSpPr>
          <p:spPr>
            <a:xfrm>
              <a:off x="2464920" y="2239560"/>
              <a:ext cx="54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13"/>
            <p:cNvSpPr/>
            <p:nvPr/>
          </p:nvSpPr>
          <p:spPr>
            <a:xfrm>
              <a:off x="5849640" y="2239560"/>
              <a:ext cx="2068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500" spc="-1" strike="noStrike">
                  <a:solidFill>
                    <a:srgbClr val="000000"/>
                  </a:solidFill>
                  <a:latin typeface="Arial"/>
                </a:rPr>
                <a:t>Концентрација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 (tež.%)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14"/>
            <p:cNvSpPr/>
            <p:nvPr/>
          </p:nvSpPr>
          <p:spPr>
            <a:xfrm>
              <a:off x="7728840" y="2239560"/>
              <a:ext cx="54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15"/>
            <p:cNvSpPr/>
            <p:nvPr/>
          </p:nvSpPr>
          <p:spPr>
            <a:xfrm>
              <a:off x="809640" y="2152440"/>
              <a:ext cx="4265640" cy="237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16"/>
            <p:cNvSpPr/>
            <p:nvPr/>
          </p:nvSpPr>
          <p:spPr>
            <a:xfrm>
              <a:off x="809640" y="2188800"/>
              <a:ext cx="4265640" cy="1116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17"/>
            <p:cNvSpPr/>
            <p:nvPr/>
          </p:nvSpPr>
          <p:spPr>
            <a:xfrm>
              <a:off x="5075280" y="2152440"/>
              <a:ext cx="47520" cy="237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18"/>
            <p:cNvSpPr/>
            <p:nvPr/>
          </p:nvSpPr>
          <p:spPr>
            <a:xfrm>
              <a:off x="5075280" y="2188800"/>
              <a:ext cx="47520" cy="111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19"/>
            <p:cNvSpPr/>
            <p:nvPr/>
          </p:nvSpPr>
          <p:spPr>
            <a:xfrm>
              <a:off x="5122800" y="2152440"/>
              <a:ext cx="2767320" cy="237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20"/>
            <p:cNvSpPr/>
            <p:nvPr/>
          </p:nvSpPr>
          <p:spPr>
            <a:xfrm>
              <a:off x="5122800" y="2188800"/>
              <a:ext cx="2767320" cy="111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21"/>
            <p:cNvSpPr/>
            <p:nvPr/>
          </p:nvSpPr>
          <p:spPr>
            <a:xfrm>
              <a:off x="7890120" y="2152440"/>
              <a:ext cx="48960" cy="237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22"/>
            <p:cNvSpPr/>
            <p:nvPr/>
          </p:nvSpPr>
          <p:spPr>
            <a:xfrm>
              <a:off x="7890120" y="2188800"/>
              <a:ext cx="48960" cy="111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23"/>
            <p:cNvSpPr/>
            <p:nvPr/>
          </p:nvSpPr>
          <p:spPr>
            <a:xfrm>
              <a:off x="7902720" y="2152440"/>
              <a:ext cx="47520" cy="237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24"/>
            <p:cNvSpPr/>
            <p:nvPr/>
          </p:nvSpPr>
          <p:spPr>
            <a:xfrm>
              <a:off x="7902720" y="2188800"/>
              <a:ext cx="47520" cy="111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25"/>
            <p:cNvSpPr/>
            <p:nvPr/>
          </p:nvSpPr>
          <p:spPr>
            <a:xfrm>
              <a:off x="712440" y="2568240"/>
              <a:ext cx="1027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500" spc="-1" strike="noStrike">
                  <a:solidFill>
                    <a:srgbClr val="000000"/>
                  </a:solidFill>
                  <a:latin typeface="Arial"/>
                </a:rPr>
                <a:t>Силицијум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26"/>
            <p:cNvSpPr/>
            <p:nvPr/>
          </p:nvSpPr>
          <p:spPr>
            <a:xfrm>
              <a:off x="1764720" y="2550960"/>
              <a:ext cx="64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00"/>
                  </a:solidFill>
                  <a:latin typeface="Arial"/>
                </a:rPr>
                <a:t>-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27"/>
            <p:cNvSpPr/>
            <p:nvPr/>
          </p:nvSpPr>
          <p:spPr>
            <a:xfrm>
              <a:off x="1879920" y="2568240"/>
              <a:ext cx="79488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500" spc="-1" strike="noStrike">
                  <a:solidFill>
                    <a:srgbClr val="000000"/>
                  </a:solidFill>
                  <a:latin typeface="Arial"/>
                </a:rPr>
                <a:t>диоксид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28"/>
            <p:cNvSpPr/>
            <p:nvPr/>
          </p:nvSpPr>
          <p:spPr>
            <a:xfrm>
              <a:off x="2253600" y="2568240"/>
              <a:ext cx="54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29"/>
            <p:cNvSpPr/>
            <p:nvPr/>
          </p:nvSpPr>
          <p:spPr>
            <a:xfrm>
              <a:off x="6489720" y="2568240"/>
              <a:ext cx="427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67,5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30"/>
            <p:cNvSpPr/>
            <p:nvPr/>
          </p:nvSpPr>
          <p:spPr>
            <a:xfrm>
              <a:off x="6900480" y="2568240"/>
              <a:ext cx="64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31"/>
            <p:cNvSpPr/>
            <p:nvPr/>
          </p:nvSpPr>
          <p:spPr>
            <a:xfrm>
              <a:off x="6960240" y="2568240"/>
              <a:ext cx="267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32"/>
            <p:cNvSpPr/>
            <p:nvPr/>
          </p:nvSpPr>
          <p:spPr>
            <a:xfrm>
              <a:off x="7217640" y="2568240"/>
              <a:ext cx="54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ectangle 33"/>
            <p:cNvSpPr/>
            <p:nvPr/>
          </p:nvSpPr>
          <p:spPr>
            <a:xfrm>
              <a:off x="809640" y="2479320"/>
              <a:ext cx="4265640" cy="255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Rectangle 34"/>
            <p:cNvSpPr/>
            <p:nvPr/>
          </p:nvSpPr>
          <p:spPr>
            <a:xfrm>
              <a:off x="809640" y="2516040"/>
              <a:ext cx="4265640" cy="1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Rectangle 35"/>
            <p:cNvSpPr/>
            <p:nvPr/>
          </p:nvSpPr>
          <p:spPr>
            <a:xfrm>
              <a:off x="5075280" y="2479320"/>
              <a:ext cx="47520" cy="255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36"/>
            <p:cNvSpPr/>
            <p:nvPr/>
          </p:nvSpPr>
          <p:spPr>
            <a:xfrm>
              <a:off x="5075280" y="2516040"/>
              <a:ext cx="47520" cy="1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37"/>
            <p:cNvSpPr/>
            <p:nvPr/>
          </p:nvSpPr>
          <p:spPr>
            <a:xfrm>
              <a:off x="5122800" y="2479320"/>
              <a:ext cx="2816280" cy="255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38"/>
            <p:cNvSpPr/>
            <p:nvPr/>
          </p:nvSpPr>
          <p:spPr>
            <a:xfrm>
              <a:off x="5122800" y="2516040"/>
              <a:ext cx="2816280" cy="1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39"/>
            <p:cNvSpPr/>
            <p:nvPr/>
          </p:nvSpPr>
          <p:spPr>
            <a:xfrm>
              <a:off x="831240" y="2847600"/>
              <a:ext cx="369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500" spc="-1" strike="noStrike">
                  <a:solidFill>
                    <a:srgbClr val="000000"/>
                  </a:solidFill>
                  <a:latin typeface="Arial"/>
                </a:rPr>
                <a:t>Бор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40"/>
            <p:cNvSpPr/>
            <p:nvPr/>
          </p:nvSpPr>
          <p:spPr>
            <a:xfrm>
              <a:off x="1233000" y="2847600"/>
              <a:ext cx="64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00"/>
                  </a:solidFill>
                  <a:latin typeface="Arial"/>
                </a:rPr>
                <a:t>-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41"/>
            <p:cNvSpPr/>
            <p:nvPr/>
          </p:nvSpPr>
          <p:spPr>
            <a:xfrm>
              <a:off x="1307520" y="2847600"/>
              <a:ext cx="556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500" spc="-1" strike="noStrike">
                  <a:solidFill>
                    <a:srgbClr val="000000"/>
                  </a:solidFill>
                  <a:latin typeface="Arial"/>
                </a:rPr>
                <a:t>оксид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42"/>
            <p:cNvSpPr/>
            <p:nvPr/>
          </p:nvSpPr>
          <p:spPr>
            <a:xfrm>
              <a:off x="1723320" y="2847600"/>
              <a:ext cx="54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43"/>
            <p:cNvSpPr/>
            <p:nvPr/>
          </p:nvSpPr>
          <p:spPr>
            <a:xfrm>
              <a:off x="6490440" y="2847600"/>
              <a:ext cx="267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1" lang="en-US" sz="15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44"/>
            <p:cNvSpPr/>
            <p:nvPr/>
          </p:nvSpPr>
          <p:spPr>
            <a:xfrm>
              <a:off x="6746400" y="2847600"/>
              <a:ext cx="64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45"/>
            <p:cNvSpPr/>
            <p:nvPr/>
          </p:nvSpPr>
          <p:spPr>
            <a:xfrm>
              <a:off x="6807240" y="2847600"/>
              <a:ext cx="427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24,6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46"/>
            <p:cNvSpPr/>
            <p:nvPr/>
          </p:nvSpPr>
          <p:spPr>
            <a:xfrm>
              <a:off x="7217640" y="2847600"/>
              <a:ext cx="54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47"/>
            <p:cNvSpPr/>
            <p:nvPr/>
          </p:nvSpPr>
          <p:spPr>
            <a:xfrm>
              <a:off x="762480" y="3124080"/>
              <a:ext cx="870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500" spc="-1" strike="noStrike">
                  <a:solidFill>
                    <a:srgbClr val="000000"/>
                  </a:solidFill>
                  <a:latin typeface="Arial"/>
                </a:rPr>
                <a:t>Натријум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48"/>
            <p:cNvSpPr/>
            <p:nvPr/>
          </p:nvSpPr>
          <p:spPr>
            <a:xfrm>
              <a:off x="1631520" y="3124080"/>
              <a:ext cx="64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00"/>
                  </a:solidFill>
                  <a:latin typeface="Arial"/>
                </a:rPr>
                <a:t>-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49"/>
            <p:cNvSpPr/>
            <p:nvPr/>
          </p:nvSpPr>
          <p:spPr>
            <a:xfrm>
              <a:off x="1707480" y="3124080"/>
              <a:ext cx="556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500" spc="-1" strike="noStrike">
                  <a:solidFill>
                    <a:srgbClr val="000000"/>
                  </a:solidFill>
                  <a:latin typeface="Arial"/>
                </a:rPr>
                <a:t>оксид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50"/>
            <p:cNvSpPr/>
            <p:nvPr/>
          </p:nvSpPr>
          <p:spPr>
            <a:xfrm>
              <a:off x="2121840" y="3124080"/>
              <a:ext cx="54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51"/>
            <p:cNvSpPr/>
            <p:nvPr/>
          </p:nvSpPr>
          <p:spPr>
            <a:xfrm>
              <a:off x="6515280" y="312408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4,0</a:t>
              </a:r>
              <a:r>
                <a:rPr b="1" lang="en-US" sz="15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52"/>
            <p:cNvSpPr/>
            <p:nvPr/>
          </p:nvSpPr>
          <p:spPr>
            <a:xfrm>
              <a:off x="6824160" y="3124080"/>
              <a:ext cx="64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53"/>
            <p:cNvSpPr/>
            <p:nvPr/>
          </p:nvSpPr>
          <p:spPr>
            <a:xfrm>
              <a:off x="6885360" y="312408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4,6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54"/>
            <p:cNvSpPr/>
            <p:nvPr/>
          </p:nvSpPr>
          <p:spPr>
            <a:xfrm>
              <a:off x="7192440" y="3124080"/>
              <a:ext cx="54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55"/>
            <p:cNvSpPr/>
            <p:nvPr/>
          </p:nvSpPr>
          <p:spPr>
            <a:xfrm>
              <a:off x="819720" y="3403440"/>
              <a:ext cx="761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500" spc="-1" strike="noStrike">
                  <a:solidFill>
                    <a:srgbClr val="000000"/>
                  </a:solidFill>
                  <a:latin typeface="Arial"/>
                </a:rPr>
                <a:t>Калијум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56"/>
            <p:cNvSpPr/>
            <p:nvPr/>
          </p:nvSpPr>
          <p:spPr>
            <a:xfrm>
              <a:off x="1550520" y="3403440"/>
              <a:ext cx="64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00"/>
                  </a:solidFill>
                  <a:latin typeface="Arial"/>
                </a:rPr>
                <a:t>-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57"/>
            <p:cNvSpPr/>
            <p:nvPr/>
          </p:nvSpPr>
          <p:spPr>
            <a:xfrm>
              <a:off x="1623240" y="3403440"/>
              <a:ext cx="556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500" spc="-1" strike="noStrike">
                  <a:solidFill>
                    <a:srgbClr val="000000"/>
                  </a:solidFill>
                  <a:latin typeface="Arial"/>
                </a:rPr>
                <a:t>оксид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58"/>
            <p:cNvSpPr/>
            <p:nvPr/>
          </p:nvSpPr>
          <p:spPr>
            <a:xfrm>
              <a:off x="2039400" y="3403440"/>
              <a:ext cx="54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59"/>
            <p:cNvSpPr/>
            <p:nvPr/>
          </p:nvSpPr>
          <p:spPr>
            <a:xfrm>
              <a:off x="6515280" y="340344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0,5</a:t>
              </a:r>
              <a:r>
                <a:rPr b="1" lang="en-US" sz="15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60"/>
            <p:cNvSpPr/>
            <p:nvPr/>
          </p:nvSpPr>
          <p:spPr>
            <a:xfrm>
              <a:off x="6824160" y="3403440"/>
              <a:ext cx="64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61"/>
            <p:cNvSpPr/>
            <p:nvPr/>
          </p:nvSpPr>
          <p:spPr>
            <a:xfrm>
              <a:off x="6884640" y="3403440"/>
              <a:ext cx="37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1,0</a:t>
              </a:r>
              <a:r>
                <a:rPr b="1" lang="en-US" sz="15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62"/>
            <p:cNvSpPr/>
            <p:nvPr/>
          </p:nvSpPr>
          <p:spPr>
            <a:xfrm>
              <a:off x="7243200" y="3403440"/>
              <a:ext cx="54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63"/>
            <p:cNvSpPr/>
            <p:nvPr/>
          </p:nvSpPr>
          <p:spPr>
            <a:xfrm>
              <a:off x="740160" y="3681000"/>
              <a:ext cx="878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500" spc="-1" strike="noStrike">
                  <a:solidFill>
                    <a:srgbClr val="000000"/>
                  </a:solidFill>
                  <a:latin typeface="Arial"/>
                </a:rPr>
                <a:t>Калцијум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64"/>
            <p:cNvSpPr/>
            <p:nvPr/>
          </p:nvSpPr>
          <p:spPr>
            <a:xfrm>
              <a:off x="1640880" y="3681000"/>
              <a:ext cx="64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65"/>
            <p:cNvSpPr/>
            <p:nvPr/>
          </p:nvSpPr>
          <p:spPr>
            <a:xfrm>
              <a:off x="1767960" y="3681000"/>
              <a:ext cx="556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500" spc="-1" strike="noStrike">
                  <a:solidFill>
                    <a:srgbClr val="000000"/>
                  </a:solidFill>
                  <a:latin typeface="Arial"/>
                </a:rPr>
                <a:t>оксид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66"/>
            <p:cNvSpPr/>
            <p:nvPr/>
          </p:nvSpPr>
          <p:spPr>
            <a:xfrm>
              <a:off x="2131560" y="3681000"/>
              <a:ext cx="54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67"/>
            <p:cNvSpPr/>
            <p:nvPr/>
          </p:nvSpPr>
          <p:spPr>
            <a:xfrm>
              <a:off x="6802200" y="368100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68"/>
            <p:cNvSpPr/>
            <p:nvPr/>
          </p:nvSpPr>
          <p:spPr>
            <a:xfrm>
              <a:off x="6905160" y="3681000"/>
              <a:ext cx="54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69"/>
            <p:cNvSpPr/>
            <p:nvPr/>
          </p:nvSpPr>
          <p:spPr>
            <a:xfrm>
              <a:off x="835200" y="3960360"/>
              <a:ext cx="1079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500" spc="-1" strike="noStrike">
                  <a:solidFill>
                    <a:srgbClr val="000000"/>
                  </a:solidFill>
                  <a:latin typeface="Arial"/>
                </a:rPr>
                <a:t>Магнезијум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70"/>
            <p:cNvSpPr/>
            <p:nvPr/>
          </p:nvSpPr>
          <p:spPr>
            <a:xfrm>
              <a:off x="1937880" y="3960360"/>
              <a:ext cx="64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00"/>
                  </a:solidFill>
                  <a:latin typeface="Arial"/>
                </a:rPr>
                <a:t>-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71"/>
            <p:cNvSpPr/>
            <p:nvPr/>
          </p:nvSpPr>
          <p:spPr>
            <a:xfrm>
              <a:off x="2069280" y="3978000"/>
              <a:ext cx="556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500" spc="-1" strike="noStrike">
                  <a:solidFill>
                    <a:srgbClr val="000000"/>
                  </a:solidFill>
                  <a:latin typeface="Arial"/>
                </a:rPr>
                <a:t>оксид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72"/>
            <p:cNvSpPr/>
            <p:nvPr/>
          </p:nvSpPr>
          <p:spPr>
            <a:xfrm>
              <a:off x="2478960" y="3954240"/>
              <a:ext cx="54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73"/>
            <p:cNvSpPr/>
            <p:nvPr/>
          </p:nvSpPr>
          <p:spPr>
            <a:xfrm>
              <a:off x="6591960" y="3960360"/>
              <a:ext cx="160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0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74"/>
            <p:cNvSpPr/>
            <p:nvPr/>
          </p:nvSpPr>
          <p:spPr>
            <a:xfrm>
              <a:off x="6746400" y="3960360"/>
              <a:ext cx="64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75"/>
            <p:cNvSpPr/>
            <p:nvPr/>
          </p:nvSpPr>
          <p:spPr>
            <a:xfrm>
              <a:off x="6807600" y="396036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0,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76"/>
            <p:cNvSpPr/>
            <p:nvPr/>
          </p:nvSpPr>
          <p:spPr>
            <a:xfrm>
              <a:off x="7114680" y="3960360"/>
              <a:ext cx="54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77"/>
            <p:cNvSpPr/>
            <p:nvPr/>
          </p:nvSpPr>
          <p:spPr>
            <a:xfrm>
              <a:off x="797040" y="4238280"/>
              <a:ext cx="1155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500" spc="-1" strike="noStrike">
                  <a:solidFill>
                    <a:srgbClr val="000000"/>
                  </a:solidFill>
                  <a:latin typeface="Arial"/>
                </a:rPr>
                <a:t>Алуминијум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78"/>
            <p:cNvSpPr/>
            <p:nvPr/>
          </p:nvSpPr>
          <p:spPr>
            <a:xfrm>
              <a:off x="1845720" y="4238280"/>
              <a:ext cx="64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00"/>
                  </a:solidFill>
                  <a:latin typeface="Arial"/>
                </a:rPr>
                <a:t>-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79"/>
            <p:cNvSpPr/>
            <p:nvPr/>
          </p:nvSpPr>
          <p:spPr>
            <a:xfrm>
              <a:off x="2056680" y="4238280"/>
              <a:ext cx="556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500" spc="-1" strike="noStrike">
                  <a:solidFill>
                    <a:srgbClr val="000000"/>
                  </a:solidFill>
                  <a:latin typeface="Arial"/>
                </a:rPr>
                <a:t>оксид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ectangle 80"/>
            <p:cNvSpPr/>
            <p:nvPr/>
          </p:nvSpPr>
          <p:spPr>
            <a:xfrm>
              <a:off x="2334600" y="4238280"/>
              <a:ext cx="54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81"/>
            <p:cNvSpPr/>
            <p:nvPr/>
          </p:nvSpPr>
          <p:spPr>
            <a:xfrm>
              <a:off x="6515280" y="423828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1,7</a:t>
              </a:r>
              <a:r>
                <a:rPr b="1" lang="en-US" sz="15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82"/>
            <p:cNvSpPr/>
            <p:nvPr/>
          </p:nvSpPr>
          <p:spPr>
            <a:xfrm>
              <a:off x="6824160" y="4238280"/>
              <a:ext cx="64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83"/>
            <p:cNvSpPr/>
            <p:nvPr/>
          </p:nvSpPr>
          <p:spPr>
            <a:xfrm>
              <a:off x="6885360" y="423828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2,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84"/>
            <p:cNvSpPr/>
            <p:nvPr/>
          </p:nvSpPr>
          <p:spPr>
            <a:xfrm>
              <a:off x="7192440" y="4238280"/>
              <a:ext cx="54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85"/>
            <p:cNvSpPr/>
            <p:nvPr/>
          </p:nvSpPr>
          <p:spPr>
            <a:xfrm>
              <a:off x="905400" y="4517640"/>
              <a:ext cx="582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500" spc="-1" strike="noStrike">
                  <a:solidFill>
                    <a:srgbClr val="000000"/>
                  </a:solidFill>
                  <a:latin typeface="Arial"/>
                </a:rPr>
                <a:t>Арсен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86"/>
            <p:cNvSpPr/>
            <p:nvPr/>
          </p:nvSpPr>
          <p:spPr>
            <a:xfrm>
              <a:off x="1428120" y="4517640"/>
              <a:ext cx="54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87"/>
            <p:cNvSpPr/>
            <p:nvPr/>
          </p:nvSpPr>
          <p:spPr>
            <a:xfrm>
              <a:off x="6647040" y="4517640"/>
              <a:ext cx="432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&lt; 0,5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88"/>
            <p:cNvSpPr/>
            <p:nvPr/>
          </p:nvSpPr>
          <p:spPr>
            <a:xfrm>
              <a:off x="7062120" y="4517640"/>
              <a:ext cx="54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89"/>
            <p:cNvSpPr/>
            <p:nvPr/>
          </p:nvSpPr>
          <p:spPr>
            <a:xfrm>
              <a:off x="809640" y="4781160"/>
              <a:ext cx="4265640" cy="255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90"/>
            <p:cNvSpPr/>
            <p:nvPr/>
          </p:nvSpPr>
          <p:spPr>
            <a:xfrm>
              <a:off x="809640" y="4757400"/>
              <a:ext cx="4265640" cy="1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91"/>
            <p:cNvSpPr/>
            <p:nvPr/>
          </p:nvSpPr>
          <p:spPr>
            <a:xfrm>
              <a:off x="5075280" y="4757400"/>
              <a:ext cx="47520" cy="1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Rectangle 92"/>
            <p:cNvSpPr/>
            <p:nvPr/>
          </p:nvSpPr>
          <p:spPr>
            <a:xfrm>
              <a:off x="5075280" y="4781160"/>
              <a:ext cx="47520" cy="255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Rectangle 93"/>
            <p:cNvSpPr/>
            <p:nvPr/>
          </p:nvSpPr>
          <p:spPr>
            <a:xfrm>
              <a:off x="5122800" y="4781160"/>
              <a:ext cx="2816280" cy="255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Rectangle 94"/>
            <p:cNvSpPr/>
            <p:nvPr/>
          </p:nvSpPr>
          <p:spPr>
            <a:xfrm>
              <a:off x="5122800" y="4757400"/>
              <a:ext cx="2816280" cy="1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Rectangle 95"/>
            <p:cNvSpPr/>
            <p:nvPr/>
          </p:nvSpPr>
          <p:spPr>
            <a:xfrm>
              <a:off x="1354320" y="481140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685800" y="620280"/>
            <a:ext cx="777240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хтеви за квалитет стакла наведени су у Фармакопеји у поглављу Контејнер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мијска стабилност стаклених контејнера за фармацеутску употребу се изражава помоћу хидролитичке отпорности тј. отпорности према отпуштању растворљивих минералних супстанци из стакла у воду под дефинисаним условима контакта унутрашње површине или спрашеног стакла и вод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ма хидролитичкој отпорности постоје четири групе стаклених контејнер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178920" y="980640"/>
            <a:ext cx="810756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Стаклени контејнери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ип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неутрално стакло - борсиликатно стакло високе хидролитичке отпорности, отпорно на високу температуру, најскупље за производњ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Стаклени контејнери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ип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I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натрон стакло – силикатно стакло са високим садржајем натријум- и калцијум-оксида, стакло чија је унутрашња површина оплемењен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рене хидролитичке отпор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Стаклени контејнери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ип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II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натрон силикатно стакло умерене хидролитичке отпорнос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Стаклени контејнери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ип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V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натрон силикатно стакло ниске хидролитичке отпорност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46836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МЕНА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СТАКЛЕНЕ АМБАЛАЖЕ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az-Cyrl-A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све парентералне препарат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хуману крв и деривате крв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I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киселе и неутралне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II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неводене парентералне препарате, прашкове за парентералну примену и све остале препарате који нису за парентералну примен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V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чврсте препарате који нису за парентералну примену, неке течне препарате за оралну примену и получврсте препарате за топикалну примен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571680" y="1000080"/>
            <a:ext cx="7772400" cy="554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ЛАСТИЧНИ МАТЕРИЈА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јали на бази пластифицираног поливинилхлорида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V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-  за хуману крв, деривате крви и за водене растворе за интравенску инфузију, блистер паковања и бочиц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истирен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S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– бочице за таблете и капсул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иетилени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ниске густине за парентералне и офталмолошке препарат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иетилени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високе густине за парентералне препара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ипропилен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P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амбалажу за парентералне препарате и филм на блистер паковањ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тиленвинилацетат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– за препарате за тоталну парентералну исхран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иконски еластомер - за израду затварача и цев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46836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сваки од претходно наведених материјала Југословенска фармакопеја 2000 даје податке о особинама, идентификацији и испитивањим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826920" y="1125000"/>
            <a:ext cx="777240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ЛАСТИЧНИ МАТЕРИЈА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ru-RU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едности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порност на удар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лексибилност (неке врсте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ска густина и мала мас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ко обликовањ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ска це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ru-RU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едостаци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ња хемијска отпорност од стакла типа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пустљивост за водену пару и испарљиве супстанце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ћност адсорбовања неких супстанци из препарата на амбалажу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ћност миграције адитива из пластике у препара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етљивост на повишене температуре при топлотној стерилизацији (неке врсте)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Box 3"/>
          <p:cNvSpPr/>
          <p:nvPr/>
        </p:nvSpPr>
        <p:spPr>
          <a:xfrm>
            <a:off x="468360" y="141300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В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24000" y="2276640"/>
            <a:ext cx="8424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ковање обезбеђује заштиту, исправност, идентификацију, информацију о фармацеутском препарату током периода чувања, дистрибуције и употреб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цеутско паковање треба да обезбеди одговарајућу ефикасност, безбедност, интегритет, чистоћу и стабилност лековитог препарата у предвиђеном року употреб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цеутско паковање може бити есенцијално за адекватну администрацију и примену лека, нпр. ако је паковање истовремено систем за доставу лека - трансдермални фластери, МДИ, назални спреј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z-Cyrl-AZ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УМЕНИ ЗАТВАРАЧ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50560" y="1844640"/>
            <a:ext cx="889308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хтеви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су хемијски индиферент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астич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вр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мостабил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смеју се одвајати делови у раств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смеју мењати квалитативно или квантитативно састав раствора ни за време стерилизације нити за време чувања препарата, у декларисаном року употреб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0" y="836280"/>
            <a:ext cx="7400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z-Cyrl-A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42960" y="1699920"/>
            <a:ext cx="7772400" cy="44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умени затварачи се израђују од материјала добијених вулканизацијом (унакрсно повезивање) макромолекула органских супстанци (еластомери- природни и синтетски) и адитива (средства за вулканизацију, акцелератори, стабилизатори, пигмент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чешће коришћени еластомери: природни, бутил, хлорбутил и силиконски еластомер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611280" y="1196640"/>
            <a:ext cx="77724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ЕТАЛНА АМБАЛАЖ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уминијум, лим и нерђајући чел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бе, кутије, посуде за аеросол, фол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едности металне амбалаж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билност обл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порн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ропустљивост за влагу, гасове и микроорганиз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едостаци металне амбалаже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ћност короз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кција са садржајем – може се спречити облагањем унутрашњег слоја амбалаже материјалима на бази смоле. Спољашњи слој се такође облаже да би се заштитио метал и омогућило штампањ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4"/>
          <p:cNvSpPr/>
          <p:nvPr/>
        </p:nvSpPr>
        <p:spPr>
          <a:xfrm>
            <a:off x="395280" y="981000"/>
            <a:ext cx="849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оредна табела карактеристика стаклене, металне и пластичне амбалаж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468360" y="1844640"/>
          <a:ext cx="7921440" cy="4856040"/>
        </p:xfrm>
        <a:graphic>
          <a:graphicData uri="http://schemas.openxmlformats.org/drawingml/2006/table">
            <a:tbl>
              <a:tblPr/>
              <a:tblGrid>
                <a:gridCol w="2309760"/>
                <a:gridCol w="1486080"/>
                <a:gridCol w="1898640"/>
                <a:gridCol w="2226960"/>
              </a:tblGrid>
              <a:tr h="396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такл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ета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ласт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патибилност са садржаје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 већином леко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гућа интеракциј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виси од природе пластик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жи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шк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ак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ак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2004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пустљивост за гасове и влаг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пропустљиво за гасове (О</a:t>
                      </a:r>
                      <a:r>
                        <a:rPr b="0" lang="sr-RS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</a:t>
                      </a:r>
                      <a:r>
                        <a:rPr b="0" lang="sr-RS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 и водену пар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пропустљиво за гасове (О</a:t>
                      </a:r>
                      <a:r>
                        <a:rPr b="0" lang="sr-RS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</a:t>
                      </a:r>
                      <a:r>
                        <a:rPr b="0" lang="sr-RS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 и водену пар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виси од природе пластик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билност на високим темп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билн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била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виси од природе пластик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со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жа од стакл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виси од врсте материјал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Box 3"/>
          <p:cNvSpPr/>
          <p:nvPr/>
        </p:nvSpPr>
        <p:spPr>
          <a:xfrm>
            <a:off x="395280" y="105264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АПИР И КАРТ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4"/>
          <p:cNvSpPr/>
          <p:nvPr/>
        </p:nvSpPr>
        <p:spPr>
          <a:xfrm>
            <a:off x="395280" y="1700280"/>
            <a:ext cx="7993080" cy="49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тко се користи за израду примарне амбалаже осим за подељене прашко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исти се за израду кеса, врећица, папирних капсула, сигнатура и упутстава за употребу лека, кут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едности папирне амбалаж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ко обликовањ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кономичн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оксичн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ћност рециклаж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годно за штамп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едостаци папирне амбалаж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пустљивост за гасове, влаг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етљивост на виске и ниске температу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4"/>
          <p:cNvSpPr/>
          <p:nvPr/>
        </p:nvSpPr>
        <p:spPr>
          <a:xfrm>
            <a:off x="606600" y="1197000"/>
            <a:ext cx="80722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балажа која је у директном контакту са леком представља примарну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актну амбалажу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нпр. стаклена боца са раствором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кундарно паковање (нпр. картонска кутија за стаклену боцу) садржи примарну амбалажу и додатне компоненте као што су мерне кашике и информација о ле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Терцијарна амбалажа служи да обједини више секундарно запакованих производа да би се олакшaло склaдиштење и трaнспор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3"/>
          <p:cNvSpPr/>
          <p:nvPr/>
        </p:nvSpPr>
        <p:spPr>
          <a:xfrm>
            <a:off x="395280" y="981000"/>
            <a:ext cx="7848720" cy="85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хтеви за примарну амбалаж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атибилнос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а леком (адсорпција лека на амбалажу може смањити потентност лека док отпуштање хемикалија у садржај амбалаже може индуковати деградацију лек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штита од атмосферских фактор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лага, кисеоник, светлост, температура, прашина) као и од микроорганизама, инсеката и глода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ба да омогући релативно лако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итивањ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уочавање механичких нечистоћа, контаминаната различитог порекла, деградације у препарату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ба да буде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фтин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ко је једнократна или да се лако пере ако је доказано да је безбедно поново је употребити - вишекратн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Box 3"/>
          <p:cNvSpPr/>
          <p:nvPr/>
        </p:nvSpPr>
        <p:spPr>
          <a:xfrm>
            <a:off x="250920" y="1268280"/>
            <a:ext cx="81374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градација лека дејством светлости – светлост може да обезбеди енергију потребну да лек изомер промени конфигурацију. Заштита се постиже употребом амбалаже направљене од опалесцентних или обојених материја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градација лека дејством кисеоника – деградација процесом оксидациј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градација лека дејством угљен-диоксида – растварањем у води снижава pH вредност формирајући угљену киселин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ага може узроковати разблаживање течног препарата и микробиолошку контаминацију препара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26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z-Cyrl-A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копејски прописи:</a:t>
            </a:r>
            <a:br>
              <a:rPr sz="2800"/>
            </a:br>
            <a:r>
              <a:rPr b="1" lang="az-Cyrl-A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угословенска фармакопеј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2000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836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валитет подређен стабилности препара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сме физички да реагује са садржајем на начин да доведе до промене карактеристика препара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јали: одређене врсте пластичних материјала и стакло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арно паковање може бити вишедозно (бочица са таблетама) или једнодозно (блистер или стрип паковања таблета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7" descr="Vitamin C Retard 1000mg 90 tableta"/>
          <p:cNvPicPr/>
          <p:nvPr/>
        </p:nvPicPr>
        <p:blipFill>
          <a:blip r:embed="rId1"/>
          <a:stretch/>
        </p:blipFill>
        <p:spPr>
          <a:xfrm>
            <a:off x="611280" y="2908440"/>
            <a:ext cx="3168720" cy="31683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" descr="E:\Far.tehnologija 1\2022 23\slika blister.jpg"/>
          <p:cNvPicPr/>
          <p:nvPr/>
        </p:nvPicPr>
        <p:blipFill>
          <a:blip r:embed="rId2"/>
          <a:stretch/>
        </p:blipFill>
        <p:spPr>
          <a:xfrm>
            <a:off x="3780000" y="2997360"/>
            <a:ext cx="4679640" cy="28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457200" y="1341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бор амбалажног материјала примарног паковања зависи од фармацеутског облика, начина апликације лека, стабилности лека, потребе за стерилизацијом, изгледа, еколошког аспекта и це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СТАКЛО, ПЛАСТИКА И МЕТА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јали који се најчешће користе за израду примарне амбалаж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4"/>
          <p:cNvSpPr/>
          <p:nvPr/>
        </p:nvSpPr>
        <p:spPr>
          <a:xfrm>
            <a:off x="657360" y="1197000"/>
            <a:ext cx="80787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АКЛЕНА АМБАЛАЖ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орфна прехлађена смеша силиката алкалних, земноалкалних и других мета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ироко у употреби за производњу фармацеутске амбалаж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клене боце и ампуле одређеног квалитета имају предност због хемијске инертности и транспарент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рсиликатно (неутрално) стакло у употреби због термичке отпорност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3T19:01:08Z</dcterms:created>
  <dc:creator>User</dc:creator>
  <dc:description/>
  <dc:language>en-US</dc:language>
  <cp:lastModifiedBy>0</cp:lastModifiedBy>
  <dcterms:modified xsi:type="dcterms:W3CDTF">2023-08-31T07:43:20Z</dcterms:modified>
  <cp:revision>131</cp:revision>
  <dc:subject/>
  <dc:title>Slide 1</dc:title>
</cp:coreProperties>
</file>